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A6F-D43C-4194-AC97-A8CC1F64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153-E070-4D4F-AFCB-80553BA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7B5-04D7-4070-8FCC-4F8C0BA5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098-4C01-4D73-A074-2DB72A4D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1F58B-D437-45F9-B8EC-A10B2C8A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13EAE-04BA-43DF-91DA-447B2540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3D55B-A9C4-4F67-BF97-22B196D7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4961E-3718-4DE5-A1E6-22D66A40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FD814-A8E5-4388-844A-D22ECE57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4A282-2981-4C0D-AFEE-55EBDB0B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6923B-1F78-405A-81CA-1C58DF3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C55-3838-4991-9F8C-F3E2F4B8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70373-D94C-40AE-B0F2-6F6139DC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09FE0-AC8A-45CA-8EAA-B394AAB8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DB85E-404E-43B9-B8C0-85C8E3ED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6FDE7-7A1D-4D2D-863A-848008B3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73D1E-5753-4D7F-872D-AE6B0F44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E3F-72BC-4EC2-B3F3-A5C8C0F3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292-2594-413D-B611-21321023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F96-1DA4-49FA-A1EA-D41D0973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434-F0DE-4615-ACAC-F251F0C0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EED-8486-4338-808B-0EB39FF6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FDB-409C-4BB8-B39F-3D5F30C8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F4B-ED33-494D-84B2-BD44212B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7DA-A01C-40AE-B4C5-838EEDEF89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C05A-D526-491F-B636-70CE46FD76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nthony Severance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ch Tur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676520"/>
            <a:ext cx="78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El Catálogo de 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938240" cy="2514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4038480"/>
            <a:ext cx="1676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Juan lleva traje de ba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ñ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o con muchos color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2280"/>
            <a:ext cx="8077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l Veran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858000" y="2590920"/>
            <a:ext cx="1981080" cy="231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410080" y="35053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37339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38862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365760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aco lleva la camiseta y los pantalones cortos blan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0"/>
            <a:ext cx="8229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a Primave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2863800" cy="3200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010280" y="4114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50292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ul lleva blue jeans y 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 amaril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1809720" cy="252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934320" y="41911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419112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fia lleva un vestido rosado y camisa blan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43000" y="0"/>
            <a:ext cx="6858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Otoñ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" y="4191120"/>
            <a:ext cx="19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amantha lleva una bufanda negro, una chaqueta gris, y los pantalones borg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296120" y="439092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410080" y="511812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edro lleva un su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er negro, una camisa gris, y los pantalones marr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14400" y="228600"/>
            <a:ext cx="7620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l Invier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695600" cy="2695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38280" y="2209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362320"/>
            <a:ext cx="121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Max lleva una chaqueta rojo, y los pantaloes para la niev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191360" y="4524480"/>
            <a:ext cx="1952640" cy="2333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38680" y="4419720"/>
            <a:ext cx="152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Antonio lleva una chaqueta negro, y los pantalones marr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8080" y="1371600"/>
            <a:ext cx="80010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E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04:17Z</dcterms:created>
  <dc:creator>Zachary Lewis Turner</dc:creator>
  <dc:description/>
  <dc:language>en-US</dc:language>
  <cp:lastModifiedBy>Zachary Lewis Turner</cp:lastModifiedBy>
  <dcterms:modified xsi:type="dcterms:W3CDTF">2013-01-04T17:58:22Z</dcterms:modified>
  <cp:revision>6</cp:revision>
  <dc:subject/>
  <dc:title>Slide 1</dc:title>
</cp:coreProperties>
</file>